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0DC50-3530-4C0A-9F8C-1577B890270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4ECAA-553D-46E7-BEA1-55040DC24E19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gain, discussions can be monitored and corrections for errors elicited post tas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366DB-11F7-4C46-922E-577EAB095336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5625D-3F15-4507-A68D-E864478731A4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05DEC-F994-4722-9BD3-5E86B6D83C9B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2C5E6-F096-417E-AE52-7E0CCDE6D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1BEAA-9975-4FDB-94CD-F08C13D75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30A0C-9B95-4C97-8277-6F8CB13D1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AC20D-E35F-48E7-B5E4-2DCCD5CE8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63B68-E687-4383-B174-AAB1BE374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17DF4-38D7-4C4E-8B94-78B389D21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4A27D-4548-4E8C-8706-B61CD214B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AF473-7C7A-4F84-9DEC-B0199BD30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33EAB-6CCB-47F5-BBE7-8CBF5AB40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18EE3-2DB6-457A-B50B-A2635C900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4B00C-2272-483C-9053-B94D607B6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987B4-D357-4B79-965C-EB95A7003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1A964-8B0E-4762-B709-339F3713FDE6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8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eewiki.newint.org/index.php/Country_profile:_Mauritius" TargetMode="External"/><Relationship Id="rId2" Type="http://schemas.openxmlformats.org/officeDocument/2006/relationships/hyperlink" Target="http://eewiki.newint.org/index.php/Country_profile_-_Indonesia" TargetMode="External"/><Relationship Id="rId3" Type="http://schemas.openxmlformats.org/officeDocument/2006/relationships/hyperlink" Target="http://eewiki.newint.org/index.php/Country_profile_-_Indonesia" TargetMode="External"/><Relationship Id="rId4" Type="http://schemas.openxmlformats.org/officeDocument/2006/relationships/hyperlink" Target="http://eewiki.newint.org/index.php/Country_profile_-_Malawi" TargetMode="External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eewiki.newint.org/index.php/Country_profile:_Mauritius" TargetMode="External"/><Relationship Id="rId2" Type="http://schemas.openxmlformats.org/officeDocument/2006/relationships/hyperlink" Target="http://eewiki.newint.org/index.php/Country_profile_-_Indonesia" TargetMode="External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2781360"/>
            <a:ext cx="7772400" cy="30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Calibri"/>
              </a:rPr>
              <a:t>QUIZ: Indonesia, Malawi or Mauritius?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71640" y="5516640"/>
            <a:ext cx="740880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0" y="189000"/>
            <a:ext cx="2592360" cy="25923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"/>
          <p:cNvPicPr/>
          <p:nvPr/>
        </p:nvPicPr>
        <p:blipFill>
          <a:blip r:embed="rId2"/>
          <a:stretch/>
        </p:blipFill>
        <p:spPr>
          <a:xfrm>
            <a:off x="2916360" y="189000"/>
            <a:ext cx="6011640" cy="15112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"/>
          <p:cNvPicPr/>
          <p:nvPr/>
        </p:nvPicPr>
        <p:blipFill>
          <a:blip r:embed="rId3"/>
          <a:stretch/>
        </p:blipFill>
        <p:spPr>
          <a:xfrm>
            <a:off x="3132000" y="189000"/>
            <a:ext cx="601200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78544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Which countries were these photos taken in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395280" y="1263600"/>
            <a:ext cx="3121200" cy="31194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2"/>
          <a:stretch/>
        </p:blipFill>
        <p:spPr>
          <a:xfrm>
            <a:off x="5796000" y="1197000"/>
            <a:ext cx="3048120" cy="30481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" descr=""/>
          <p:cNvPicPr/>
          <p:nvPr/>
        </p:nvPicPr>
        <p:blipFill>
          <a:blip r:embed="rId3"/>
          <a:stretch/>
        </p:blipFill>
        <p:spPr>
          <a:xfrm>
            <a:off x="3203640" y="2557440"/>
            <a:ext cx="2508120" cy="37479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6" descr=""/>
          <p:cNvPicPr/>
          <p:nvPr/>
        </p:nvPicPr>
        <p:blipFill>
          <a:blip r:embed="rId4"/>
          <a:stretch/>
        </p:blipFill>
        <p:spPr>
          <a:xfrm>
            <a:off x="17640" y="4432320"/>
            <a:ext cx="3047760" cy="22860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7" descr=""/>
          <p:cNvPicPr/>
          <p:nvPr/>
        </p:nvPicPr>
        <p:blipFill>
          <a:blip r:embed="rId5"/>
          <a:stretch/>
        </p:blipFill>
        <p:spPr>
          <a:xfrm>
            <a:off x="6443640" y="4307040"/>
            <a:ext cx="2411280" cy="24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8000" y="274320"/>
            <a:ext cx="88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Calibri"/>
              </a:rPr>
              <a:t>What do you know about these countries?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197000"/>
            <a:ext cx="40384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Malaw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Mauritiu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ndones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1762200" y="1557360"/>
            <a:ext cx="1936800" cy="19368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3" descr=""/>
          <p:cNvPicPr/>
          <p:nvPr/>
        </p:nvPicPr>
        <p:blipFill>
          <a:blip r:embed="rId2"/>
          <a:stretch/>
        </p:blipFill>
        <p:spPr>
          <a:xfrm>
            <a:off x="6875640" y="1089000"/>
            <a:ext cx="2089080" cy="20876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" descr=""/>
          <p:cNvPicPr/>
          <p:nvPr/>
        </p:nvPicPr>
        <p:blipFill>
          <a:blip r:embed="rId3"/>
          <a:stretch/>
        </p:blipFill>
        <p:spPr>
          <a:xfrm>
            <a:off x="4067280" y="3994200"/>
            <a:ext cx="1865160" cy="2787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"/>
          <p:cNvPicPr/>
          <p:nvPr/>
        </p:nvPicPr>
        <p:blipFill>
          <a:blip r:embed="rId4"/>
          <a:stretch/>
        </p:blipFill>
        <p:spPr>
          <a:xfrm>
            <a:off x="1031760" y="4610160"/>
            <a:ext cx="2895840" cy="21715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8" descr=""/>
          <p:cNvPicPr/>
          <p:nvPr/>
        </p:nvPicPr>
        <p:blipFill>
          <a:blip r:embed="rId5"/>
          <a:stretch/>
        </p:blipFill>
        <p:spPr>
          <a:xfrm>
            <a:off x="6500880" y="3284640"/>
            <a:ext cx="2463840" cy="24638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9" descr=""/>
          <p:cNvPicPr/>
          <p:nvPr/>
        </p:nvPicPr>
        <p:blipFill>
          <a:blip r:embed="rId6"/>
          <a:stretch/>
        </p:blipFill>
        <p:spPr>
          <a:xfrm>
            <a:off x="412920" y="1754280"/>
            <a:ext cx="1149120" cy="7714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0" descr=""/>
          <p:cNvPicPr/>
          <p:nvPr/>
        </p:nvPicPr>
        <p:blipFill>
          <a:blip r:embed="rId7"/>
          <a:stretch/>
        </p:blipFill>
        <p:spPr>
          <a:xfrm>
            <a:off x="2725560" y="3713040"/>
            <a:ext cx="1202040" cy="8035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1" descr=""/>
          <p:cNvPicPr/>
          <p:nvPr/>
        </p:nvPicPr>
        <p:blipFill>
          <a:blip r:embed="rId8"/>
          <a:stretch/>
        </p:blipFill>
        <p:spPr>
          <a:xfrm>
            <a:off x="5280120" y="2139840"/>
            <a:ext cx="1306440" cy="8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W</a:t>
            </a:r>
            <a:r>
              <a:rPr b="1" lang="en-GB" sz="2900" spc="-1" strike="noStrike">
                <a:solidFill>
                  <a:srgbClr val="000000"/>
                </a:solidFill>
                <a:latin typeface="Calibri"/>
              </a:rPr>
              <a:t>hich (of Malawi, Indonesia or Mauritius) are the following statements about?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324000" y="1413000"/>
            <a:ext cx="864072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Population: 239.9 million / life expectancy: 69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Population: 14.9 million / life expectancy: 54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Population: 1.3 million / life expectancy: 73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It’s the biggest investor in Indi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Almost half the population live on under 2 dollars a da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The dodo became extinct here in 1780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It became independent from the British in 1968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It had the first female President in southern Africa (Joyce Banda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ow quickly scan the 3 articles to find out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107640" y="1700280"/>
            <a:ext cx="8785080" cy="483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Mauritius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eewiki.newint.org/index.php/Country_profile:_Mauritiu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Indonesia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</a:t>
            </a:r>
            <a:r>
              <a:rPr b="0" lang="en-GB" sz="2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://eewiki.newint.org/index.php/Country_profile_-_Indonesi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600" spc="-1" strike="noStrike">
                <a:solidFill>
                  <a:srgbClr val="000000"/>
                </a:solidFill>
                <a:latin typeface="Calibri"/>
              </a:rPr>
              <a:t>Malawi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http://eewiki.newint.org/index.php/Country_profile_-_Malawi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4" descr=""/>
          <p:cNvPicPr/>
          <p:nvPr/>
        </p:nvPicPr>
        <p:blipFill>
          <a:blip r:embed="rId5"/>
          <a:stretch/>
        </p:blipFill>
        <p:spPr>
          <a:xfrm>
            <a:off x="2774880" y="4292640"/>
            <a:ext cx="1146240" cy="7682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5" descr=""/>
          <p:cNvPicPr/>
          <p:nvPr/>
        </p:nvPicPr>
        <p:blipFill>
          <a:blip r:embed="rId6"/>
          <a:stretch/>
        </p:blipFill>
        <p:spPr>
          <a:xfrm>
            <a:off x="3059280" y="2973240"/>
            <a:ext cx="1304640" cy="8715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6" descr=""/>
          <p:cNvPicPr/>
          <p:nvPr/>
        </p:nvPicPr>
        <p:blipFill>
          <a:blip r:embed="rId7"/>
          <a:stretch/>
        </p:blipFill>
        <p:spPr>
          <a:xfrm>
            <a:off x="3059280" y="1628640"/>
            <a:ext cx="120168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Key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599840"/>
            <a:ext cx="584352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Population: 239.9 million / life expectancy: 6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Population: 14.9 million / life expectancy: 5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Population: 1.3 million / life expectancy: 7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It’s the biggest investor in Ind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Almost half the population live on under 2 dollars a da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he dodo became extinct here in 178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It became independent from the British in 196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It had the first female President in southern Africa (Joyce Banda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659280" y="1599840"/>
            <a:ext cx="202716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09040" indent="-5090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Indonesi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Malawi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Mauritiu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Mauritiu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Indonesi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Mauritiu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Mauritiu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Malawi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5" descr=""/>
          <p:cNvPicPr/>
          <p:nvPr/>
        </p:nvPicPr>
        <p:blipFill>
          <a:blip r:embed="rId1"/>
          <a:stretch/>
        </p:blipFill>
        <p:spPr>
          <a:xfrm>
            <a:off x="5651640" y="165240"/>
            <a:ext cx="1323720" cy="13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ow read, compare and learn new language from all 3 articles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Easier English article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Mauritius: </a:t>
            </a:r>
            <a:r>
              <a:rPr b="0" lang="en-GB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eewiki.newint.org/index.php/Country_profile:_Mauritiu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Indonesia: </a:t>
            </a:r>
            <a:r>
              <a:rPr b="0" lang="en-GB" sz="2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eewiki.newint.org/index.php/Country_profile_-_Indones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Malawi: http://eewiki.newint.org/index.php/Country_profile_-_Malaw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Original article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Mauritiu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http://newint.org/columns/country/2013/04/01/country-profile-mauritius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Indonesia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http://newint.org/columns/country/2013/05/01/country-profile-indonesia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Malawi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http://newint.org/columns/country/2013/06/01/malawi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2" descr=""/>
          <p:cNvPicPr/>
          <p:nvPr/>
        </p:nvPicPr>
        <p:blipFill>
          <a:blip r:embed="rId3"/>
          <a:stretch/>
        </p:blipFill>
        <p:spPr>
          <a:xfrm>
            <a:off x="3276720" y="4941720"/>
            <a:ext cx="10713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15T14:37:08Z</dcterms:created>
  <dc:creator>Linda Ruas</dc:creator>
  <dc:description/>
  <dc:language>en-US</dc:language>
  <cp:lastModifiedBy>Linda Ruas</cp:lastModifiedBy>
  <dcterms:modified xsi:type="dcterms:W3CDTF">2014-05-26T14:19:17Z</dcterms:modified>
  <cp:revision>28</cp:revision>
  <dc:subject/>
  <dc:title>Countries</dc:title>
</cp:coreProperties>
</file>